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1F62-9462-43EC-AA42-F1512CB281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One of Nin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it One of Nine Unit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3, 5, 7, 11, 13, and 17 are prim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im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, 3, 5, 7, 11, 13, and 17 are prime number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osit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est common factor (GCF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eatest common factor (GCF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st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owest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roc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s of numbers whose product is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and 3 are reciproc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ciproca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irs of numbers whose product is 1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/3 and 3 are reciprocal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divis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ot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divis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n addi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n addi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mmon denominator (LCD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east common denominator (LCD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ixed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subtrac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fferenc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subtrac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troductory Algebra Glossary is sim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sing the Introductory Algebra Glossary is simple.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 (power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that indicates how many times a factor is repe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exponent is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 (power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that indicates how many times a factor is repeated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exponent is thre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base is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ba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base is tw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ial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r letter (variable)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23 or x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ial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or letter (variable)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s: 23 or x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ing symbo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heses, ( ), square brackets, [ ], or fraction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ouping symbo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entheses, ( ), square brackets, [ ], or fraction ba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is a symbol used to represent an unknown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erm 3x the variable is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ariabl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variable is a symbol used to represent an unknown number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 the term 3x the variable is x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gebraic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atement that two algebraic expressions are equ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4x = 5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statement that two algebraic expressions are equal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:  4x = 5y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of an 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replacement for the variable that makes the equation tr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olution of an 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replacement for the variable that makes the equation tru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llection of objec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(members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 that belong to a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lements (members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bjects that belong to a set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s used for count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atur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s used for counting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1, 2, 3, 4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lin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lin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left of zero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ega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left of zero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right of zero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osi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right of zero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ed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 that can be written with a positive or negative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igned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s that can be written with a positive or negative sign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integ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...-3, -2, -1, 0, 1, 2, 3,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eg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integ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...-3, -2, -1, 0, 1, 2, 3,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of a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aph of a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whole numb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5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hole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whole numb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0, 1, 2, 3, 4, 5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ve inver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dditive inver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zero and a number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bsolute valu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distance between zero and a number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ve inverse (reciprocal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ultiplicative inverse (reciprocal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4 + 3 = 3 + 6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4 + 3 = 3 + 6 + 4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multipl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4 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multiplic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4 = 4 • 6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(3 + 2) = (6 + 3)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(3 + 2) = (6 + 3) + 2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multiplic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(2 • 3) = (6 • 2) •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multiplic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(2 • 3) = (6 • 2) • 3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ty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0 = x        x • 1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dentity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X + 0 = x        x • 1 = x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+ (-1) = 0       1 • (1/2)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verse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 + (-1) = 0       1 • (1/2) = 1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b + c) = ab + a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tributive propert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(b + c) = ab + ac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a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ical coeffic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ical coeffic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ing 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7x2 = 9x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bining 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x2 + 7x2 = 9x2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min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enominato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3 and 6 are factors of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, 2, 3 and 6 are factors of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multiplica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the product of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oduc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multiplica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the product of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factored as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ed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factored as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jqjacobs.net/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Unit One of Nine Unit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im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atural number (except one) that has only one and itself as facto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, 3, 5, 7, 11, 13, and 17 are prime number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posit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mposite number has at least one factor other than itself and o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eatest common factor (GCF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largest common factor of a list of integers or the largest term that is a factor of all terms in the polynomial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owest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fraction is in lowest terms when there are no common factors in the numerator and denominator (except 1)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ciproca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irs of numbers whose product is 1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/3 and 3 are reciprocal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quot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divis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u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n addi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ast common denominator (LCD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several denominators, the smallest expression that is divisible by all the denominators is called the least common denominato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ixed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whole number and a fraction written together and understood to be their su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fferenc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subtrac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the Introductory Algebra Glossary is simple. 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ick thru the slide show and check your knowledge of definitions before you display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 (power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that indicates how many times a factor is repeated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exponent is thre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ba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that is a repeated factor when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base is tw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ial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or letter (variable)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s: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or 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ouping symbo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rentheses, ( ), square brackets, [ ], or fraction ba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variabl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variable is a symbol used to represent an unknown number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n the term 3x the variable is x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lgebraic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statement that two algebraic expressions are equal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:  4x = 5y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olution of an 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replacement for the variable that makes the equation tru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llection of objec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lements (members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bjects that belong to a set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atur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s used for counting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1, 2, 3, 4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ber lin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line with a scale that is used to show how numbers relate to each othe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ega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left of zero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osi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right of zero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igned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Numbers that can be written with a positive or negative sign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teg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integ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...-3, -2, -1, 0, 1, 2, 3,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aph of a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oint on a number line that corresponds to a number is its graph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Rational numbers can be written as the quotient of two integers, with denominator not zero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-builder not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et-builder notation is used to describe a set of numbers without actually having to list all of the elemen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r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rrational numbers cannot be written as the quotient of two integers but can be represented by points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ll numbers that can be represented by points on the number line, that is, all rational and irrational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hole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whole numb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0, 1, 2, 3, 4, 5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dditive inver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wo numbers that are the same distance from zero on a number line but on opposite sides of zero. The sum of two additive inverses equals zer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bsolute valu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distance between zero and a number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ultiplicative inverse (reciprocal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multiplicative inverse of a nonzero real number a is 1/a. The product of multiplicative inverses is on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rder of numbers in an addition problem can be changed without changing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4 + 3 = 3 + 6 + 4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multiplication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roduct in a multiplication problem remains the same regardless of the order of the factors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4 = 4 • 6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added are grouped does not change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(3 + 2) = (6 + 3) + 2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multiplic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multiplied are grouped does not change the product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2 • 3) = (6 • 2) • 3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dentity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um of zero and any number equals the number, and the product of one and any number equals the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X + 0 = x        x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1 = x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verse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added to its opposite is zero and a number multiplied by its reciprocal is one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 + (-1) = 0       1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1/2) = 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stributive property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or any real numbers a, b, and c, the distributive property states tha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(b + c) = ab + ac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a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above the fraction bar that shows how many equivalent parts are being considered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ter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, a variable, or the product or quotient of a number and one or more variables raised to pow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ical coeffic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erical factor in a term. In the term 6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numerical coefficient is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ame variables raised to exactly the same powers. 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like term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un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erms that do not have the same variable or the variables are not raised to the same powers.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unlike term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bining 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method of adding or subtracting like terms by using the properties of real number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+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= 9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reated by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James Q. Jacobs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nominator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below the fraction bar in a fraction. It shows the number of equal parts in a whol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number that divides evenly (without remainder) into the given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, 2, 3 and 6 are factors of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oduc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multiplica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the product of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ed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is factored by writing it as the product of two or more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factored as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LEGION</cp:lastModifiedBy>
  <dcterms:modified xsi:type="dcterms:W3CDTF">2017-07-06T06:35:47Z</dcterms:modified>
  <cp:revision>11</cp:revision>
  <dc:subject/>
  <dc:title>Introductory Algebra</dc:title>
</cp:coreProperties>
</file>